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12C-D885-4A3E-A31B-4916F7E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2D2-2A4B-49EB-B44C-158921C7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BBD-7E95-44DF-BFE1-468AB780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21F-5B2D-47D6-A67E-B41A570E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E18-88F4-41B0-AE1F-51C4DC8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245-71ED-459E-BC5B-41DED5C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583-E41E-41AD-8FCC-A2CDF547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8B7-FA98-4346-B838-CE9A747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3DA-C877-447A-B050-2DAD047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2F9-82AB-4F05-86F9-161991D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3B4-D7D0-460B-803F-88E9CB8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0F3-FA15-42BC-BC27-3699CCC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DCDB-EA9A-4183-AF44-AA3DF9DC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istorychannel.com/france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graphy Alive: Regions and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ert Bower, pgs 11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ver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san Little, pgs 12, 16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storychannel.com/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nationalgeographic.com/germany/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0:51Z</dcterms:created>
  <dc:creator>tmoore</dc:creator>
  <dc:description/>
  <dc:language>en-US</dc:language>
  <cp:lastModifiedBy>tmoore</cp:lastModifiedBy>
  <dcterms:modified xsi:type="dcterms:W3CDTF">2009-02-09T14:21:07Z</dcterms:modified>
  <cp:revision>1</cp:revision>
  <dc:subject/>
  <dc:title>Bibliography</dc:title>
</cp:coreProperties>
</file>